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34A43-E3EC-4E12-AB64-AE5C05F9E2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various cultural issues that a teacher should be aware of when teaching groups from various backgroun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2E687-379B-490C-85A3-2B63590E4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E9AF4-F463-4ECA-9417-FB594C7CA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5D8C1-0CF3-4457-A125-E66CB17F8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30CD7-3277-46CD-BD5F-EF1F63D1F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1F710B-2CA6-4DA8-80DE-0FD7871C48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AB06F-5A87-4CF1-B548-92B47F4C8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B087A-6195-4B5F-AA8B-505DCD10F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BEC5B-D370-4F00-8B68-854C3352E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91C10-49C8-4D07-BFD6-D3FDBC0684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383FC-6431-4364-A9AA-88392E09C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2DC4A-2AC9-4C9E-A381-C9500B92B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A7744-A5DA-4329-A957-DD79D39C2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95512-F96A-40E1-9B25-EEBCFB44C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3BDA4-87F5-44AF-A25F-D6E910843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5F34B-7E64-4791-9FB9-34F0B1605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FBB867-9D36-4603-89A1-E9BB6BD667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ACE452-B9BB-430B-8AF0-C21F9B85F1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27F0D-340D-4DC6-9F6F-6AFB342A2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3FB77-1A9D-4645-86C3-48A7CCEB0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A1276-ED09-48AE-B392-B3A146E49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81F80-7C50-4C6D-B422-1AE045718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E6B46-F12C-429F-B0F3-F494F7333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B862C-7451-4D5E-A293-BC7E72FFB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053C0-4B04-41B8-9EE9-B8633467D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AFDDA-D176-4658-9B94-740C17DDFEE4}"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997D8-36B5-4557-83C9-1336F7512334}"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acher Student Interaction</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Role of student and instructor</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king ques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tyles of address, hierarchy and authority</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ritiquing</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t>
            </a:r>
            <a:r>
              <a:rPr b="0" lang="en-US" sz="2800" spc="-1" strike="noStrike">
                <a:solidFill>
                  <a:srgbClr val="003366"/>
                </a:solidFill>
                <a:latin typeface="Arial"/>
              </a:rPr>
              <a:t>Sensitivity and discretion may save you potential online embarrassmen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ole of student and instructor</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creation of knowledge and meaning in an online course, may be different than used to.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sking questions</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king direct questions may be a problem for some, and in some cultures there is an expectation that the teacher will ‘tell’ and the student will learn what the teacher has said. There may be an expectation of authority by the e-moderator on the part of the student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tyles of address, hierarchy and authority</a:t>
            </a:r>
            <a:endParaRPr b="1" lang="en-US" sz="3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societies display a greater degree of formality than others. Titles may be used to address other participants and use of first names may not be commo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ritiquing</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y be rude in some cultures, the person whose work is critiqued may lose face and feel slighted.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19:17:53Z</dcterms:created>
  <dc:creator>Andrew</dc:creator>
  <dc:description/>
  <dc:language>en-US</dc:language>
  <cp:lastModifiedBy>Andrew</cp:lastModifiedBy>
  <dcterms:modified xsi:type="dcterms:W3CDTF">2010-04-27T19:27:37Z</dcterms:modified>
  <cp:revision>1</cp:revision>
  <dc:subject/>
  <dc:title>Teacher Student Interaction</dc:title>
</cp:coreProperties>
</file>