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C38F-38CB-4D8A-8C85-1745AB421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cultural issues that a teacher should be aware of when teaching groups from various backgrou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A325F-F3D8-49B1-81A2-A0530572B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9EEEC-6841-4875-9566-0E24A9A23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2CD8F-CC4C-48F7-962F-84B179287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7E2DF-2A44-4541-B945-D7756A1DB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E5365-89E2-4B57-891B-D85F858A6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5D75C-32DB-4D98-BA88-C5B95F5D8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19271-BEA9-49E4-BABD-7B6549894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9CE05-BF17-4F39-BBF1-B9A433EC8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01AE7-F3C8-40F9-8577-56B72FDFC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2EAE8-F8BA-416E-BE80-4C9649583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26E94-9DA5-4E09-B421-969C01CEA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7DDF6-5D85-4498-9204-653B467CD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8A5DD-807F-4827-9A02-FA982161C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E58A8-B017-47E4-89D8-8B43EC487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FF420-ADD7-40A3-8A7F-39C7F86D9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38BB8-E8DA-4C68-A38A-DD17994CA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4DA11-7211-404F-AB93-5219E75E6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D4BB0-968F-47C4-BAE1-CAD04750C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EC74B-8776-4FD4-A434-BAB84491E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98DA4-085A-4F7C-8556-97128A70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74EF4-0EBA-4982-8194-9D17CF486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F60C8-3B41-4ADC-AF74-5352DDE14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05E4E-D416-4106-882A-ACCDE8BC1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5FA7-9A9E-44C2-A9FB-84FFE04C7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A67B-2F69-4636-A4B3-254B43F4790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1616-E1CD-4E76-8EE5-C7D7D26C2B0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tudent Interac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le of student and instructo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king ques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yles of address, hierarchy and authorit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itiquing</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ensitivity and discretion may save you potential online embarrassmen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le of student and instructor</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ion of knowledge and meaning in an online course, may be different than used t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king question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ing direct questions may be a problem for some, and in some cultures there is an expectation that the teacher will ‘tell’ and the student will learn what the teacher has said. There may be an expectation of authority by the e-moderator on the part of the stu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yles of address, hierarchy and authority</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ocieties display a greater degree of formality than others. Titles may be used to address other participants and use of first names may not be comm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iqu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be rude in some cultures, the person whose work is critiqued may lose face and feel slight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9:17:53Z</dcterms:created>
  <dc:creator>Andrew</dc:creator>
  <dc:description/>
  <dc:language>en-US</dc:language>
  <cp:lastModifiedBy>Andrew</cp:lastModifiedBy>
  <dcterms:modified xsi:type="dcterms:W3CDTF">2010-04-27T19:27:37Z</dcterms:modified>
  <cp:revision>1</cp:revision>
  <dc:subject/>
  <dc:title>Teacher Student Interaction</dc:title>
</cp:coreProperties>
</file>